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20E35-742B-47BB-80A8-7D0F49EA8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8153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7720" y="4077720"/>
            <a:ext cx="8153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B803A-5268-4C59-BDAB-22E161210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5015880" y="137124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5B50B35-8035-4832-AA83-23FC2B66C719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4D7564E-BC2A-44EA-A425-070D7CDF8FE7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838080" y="-360"/>
            <a:ext cx="8305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8F6657B-03A8-44AC-B75A-E4F09AD16A76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5015880" y="137124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837720" y="407772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21C302E-3E07-42FA-A476-D5B86D44F121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501588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5880" y="407772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8C44580-08DA-448F-9192-ABCD67A6CE3A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588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837720" y="4077720"/>
            <a:ext cx="8153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AB8037B-BD19-4CE1-9AE1-0D1476C765EB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8153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837720" y="4077720"/>
            <a:ext cx="8153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4A23A87-5F02-42FC-BD85-0546EE159283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01588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837720" y="407772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5015880" y="407772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F4059DB-718B-4CB5-8599-7CAF64EE89C7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594600" y="13712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351120" y="13712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837720" y="407772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594600" y="407772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351120" y="407772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C67C0F9-DD1E-49B1-B02E-254ED6494F9E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8172DA1-F39A-485E-B1DD-9460F55564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588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7720" y="407772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15880" y="407772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73BD2-4B41-46BF-96B4-C707B76FE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837720" y="1371240"/>
            <a:ext cx="815364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69A0C61-56B7-414F-A8DE-D5D0F04B6B80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81536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8444386-C66C-4541-9236-D7175A593F04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5015880" y="137124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C4DC3ED-362E-4DD2-98A0-9C5F90E0A328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2BC0E46-1309-4CCA-B1A4-BEB370968452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838080" y="-360"/>
            <a:ext cx="8305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0055BAF-33D0-41CA-A1DA-B33BB7F53B15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5015880" y="137124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837720" y="407772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4200408-25A2-4533-A54C-CE79973AEA23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501588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5015880" y="407772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23A2E65-97B5-4CA7-88AA-690D987FCF6E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01588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837720" y="4077720"/>
            <a:ext cx="8153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9901092-D436-43B4-824D-9927F2E72364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8153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837720" y="4077720"/>
            <a:ext cx="8153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1AEF413-002D-4A60-8265-000176C70DA8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501588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837720" y="407772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5015880" y="407772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922FFBE-A592-4176-BFAD-79C7A2F325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94600" y="13712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51120" y="13712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7720" y="407772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94600" y="407772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51120" y="407772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D91CA-1187-4C6E-93C0-1DBAE2BFC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594600" y="13712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351120" y="13712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837720" y="407772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594600" y="407772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351120" y="407772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4168765-1B09-444D-86FA-AAF055D0F3CF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4D160D-DF24-4EAD-A50C-71D667928EC9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837720" y="1371240"/>
            <a:ext cx="815364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29D9D2-7713-4A99-BF21-24300B7BD0FE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81536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C1E096-CEFF-4668-A451-178CE56B88E1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5880" y="137124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009CAD-15EF-44EA-A127-5861B155B6F4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3E8EFA-ED52-4AF8-A2C9-DCF3893B2E62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838080" y="-360"/>
            <a:ext cx="8305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4A7EB8-8D8A-4B77-AB72-4528EBD9D086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5015880" y="137124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837720" y="407772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2B0138-4483-492F-A5CD-C35D16E857BE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501588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5015880" y="407772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A4373B-D36A-47A6-A8EF-5D569E981410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501588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837720" y="4077720"/>
            <a:ext cx="8153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4FE4E6-DFD4-47BE-8DF6-8ED082F2A8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81633F-DD1B-4E83-99C2-8F0781DFE685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8153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837720" y="4077720"/>
            <a:ext cx="8153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A59125-F572-469E-BD96-112FC701D4BB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501588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837720" y="407772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5015880" y="407772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2F3BBF-8DC9-4845-AD82-1A7CA62C4A16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594600" y="13712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351120" y="13712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837720" y="407772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594600" y="407772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351120" y="407772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1EE32B-D6C9-43E6-9E6D-2757E153B2A5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85FDBCB-DDE9-4A84-8512-08855ED9C340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837720" y="1371240"/>
            <a:ext cx="815364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D99C9A8-5ECF-42F1-84BA-51939E792392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81536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A146180-B393-4ECB-939E-D0B7EBDD38FD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5015880" y="137124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99BA1CE-47F8-4B9A-8B8C-C12C462AA57C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73B3100-B3E5-4E09-9872-8B45CB7029A0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838080" y="-360"/>
            <a:ext cx="8305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5B5B3F9-C339-4872-9882-7D644DD69F6E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5015880" y="137124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837720" y="407772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0E9754C-20EA-4507-B797-72F18C50F83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7720" y="1371240"/>
            <a:ext cx="815364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DF315B-696B-4D0E-B000-514EEB4211F4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501588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5015880" y="407772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E0FBFF9-B938-4B8E-BE14-5B41BA8FF268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501588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837720" y="4077720"/>
            <a:ext cx="8153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E4B69C0-8668-4D77-90F2-6A3C69B8480D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8153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837720" y="4077720"/>
            <a:ext cx="8153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543F2BC-857B-4D66-ACCC-7802E80FC94E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501588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837720" y="407772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5015880" y="407772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B00C67B-D4B0-4685-B15D-2D0E167093D8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594600" y="13712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351120" y="13712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837720" y="407772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594600" y="407772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351120" y="407772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1BDE1AE-E0EE-481E-B007-9A98031C09BA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26C5F41-5E32-4E35-91A1-7D013917A56B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837720" y="1371240"/>
            <a:ext cx="815364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A144262-CA1C-40AF-93E0-F5AB1D971381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81536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395AB3C-193C-483B-9D0D-038C2EB14FA3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5015880" y="137124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7A2C064-4EFD-4D15-B00E-11557E50DA83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2D3525A-F10C-4AAE-B05E-777BA0500E6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81536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4AC6DB-ADE9-4106-9E3C-5C874D617842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838080" y="-360"/>
            <a:ext cx="8305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9BF8171-8728-41E4-87AE-DEC0B168192E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5015880" y="137124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837720" y="407772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7AA433A-C158-40D2-B245-DBF35E373CF0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501588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5015880" y="407772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8B622EF-FFE2-4C5E-9D3C-A1EDED3E7A3B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501588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837720" y="4077720"/>
            <a:ext cx="8153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1369914-AD46-4A7B-AA50-5AF1AABDC5CE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8153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837720" y="4077720"/>
            <a:ext cx="8153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5D4F988-85DC-4513-A6B5-A1248F3E53A1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501588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837720" y="407772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5015880" y="407772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D3FD3C2-8D4A-474A-96AC-35487962977C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594600" y="13712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351120" y="13712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837720" y="407772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594600" y="407772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351120" y="407772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A18073B-9B4D-4E9D-885B-CCC2B9435378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0CDA7C-D020-40DB-88E5-6F6C42CDABE2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837720" y="1371240"/>
            <a:ext cx="815364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45F8DF-2D3E-4BD9-AD24-1F59224B384A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81536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C78E0B-A04A-466C-9150-42F09C64AF9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15880" y="137124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3A4229-8280-4F3A-A55B-96AEF835AA27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5015880" y="137124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577E43-9672-4AE1-987B-13663E1080F3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A18DC2-CB23-4447-B9C8-38CFB340755A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838080" y="-360"/>
            <a:ext cx="8305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9F6197-A536-45A6-8CDA-639070970AEC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5880" y="137124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837720" y="407772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C7ADD4-26A4-4F65-B1BD-ECED426803F4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501588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5015880" y="407772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9815DB-295F-41B9-AAEA-F448B0243DF8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501588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837720" y="4077720"/>
            <a:ext cx="8153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50B464-1EDF-46F3-8BB5-E376FD4270A0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8153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837720" y="4077720"/>
            <a:ext cx="8153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8DACFB-81F3-40FA-BE46-4C4E96002DC6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501588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837720" y="407772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5015880" y="407772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13F4C2-5CC1-4483-A310-894F7A49173F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594600" y="13712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351120" y="13712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837720" y="407772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594600" y="407772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351120" y="407772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6A170F-8E40-474A-AE8F-323A35AA644D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75B8DD-0061-42A1-A965-A0F269A63DA3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 type="subTitle"/>
          </p:nvPr>
        </p:nvSpPr>
        <p:spPr>
          <a:xfrm>
            <a:off x="837720" y="1371240"/>
            <a:ext cx="815364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81536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5015880" y="137124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subTitle"/>
          </p:nvPr>
        </p:nvSpPr>
        <p:spPr>
          <a:xfrm>
            <a:off x="838080" y="-360"/>
            <a:ext cx="8305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5015880" y="137124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837720" y="407772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501588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5015880" y="407772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501588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837720" y="4077720"/>
            <a:ext cx="8153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8153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837720" y="4077720"/>
            <a:ext cx="8153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501588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837720" y="407772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5"/>
          <p:cNvSpPr>
            <a:spLocks noGrp="1"/>
          </p:cNvSpPr>
          <p:nvPr>
            <p:ph/>
          </p:nvPr>
        </p:nvSpPr>
        <p:spPr>
          <a:xfrm>
            <a:off x="5015880" y="407772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-360"/>
            <a:ext cx="8305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EF2B41-C691-444F-BE3D-21B092EC3333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3594600" y="13712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6351120" y="13712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/>
          </p:nvPr>
        </p:nvSpPr>
        <p:spPr>
          <a:xfrm>
            <a:off x="837720" y="407772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6"/>
          <p:cNvSpPr>
            <a:spLocks noGrp="1"/>
          </p:cNvSpPr>
          <p:nvPr>
            <p:ph/>
          </p:nvPr>
        </p:nvSpPr>
        <p:spPr>
          <a:xfrm>
            <a:off x="3594600" y="407772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7"/>
          <p:cNvSpPr>
            <a:spLocks noGrp="1"/>
          </p:cNvSpPr>
          <p:nvPr>
            <p:ph/>
          </p:nvPr>
        </p:nvSpPr>
        <p:spPr>
          <a:xfrm>
            <a:off x="6351120" y="407772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15880" y="137124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7720" y="407772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F87732-3F96-4C28-B43C-DF29200D4B1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7720" y="1371240"/>
            <a:ext cx="815364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59634-AEA7-4A7F-96D4-DF537AFD8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1588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15880" y="407772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AD0105-6207-454B-9D2B-D437B451241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1588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7720" y="4077720"/>
            <a:ext cx="8153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72113F-C38E-4507-AA16-A6D401918D4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8153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7720" y="4077720"/>
            <a:ext cx="8153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D07952-B53D-4189-AC2E-E77435FAEF4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1588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7772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15880" y="407772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159D4F-9C6D-48E4-81EC-398B4490AF9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94600" y="13712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351120" y="13712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7720" y="407772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94600" y="407772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351120" y="407772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90D9A7-8347-4914-B566-B1A0FCEFFC78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02EE68-AE50-4AD8-A0BD-883741DB432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837720" y="1371240"/>
            <a:ext cx="815364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ADB5C6-CCD8-4BA8-8C70-E0F078086E4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81536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BA502E-97F7-490E-8E3B-8AE1EEE4D14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015880" y="137124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3946F8-65DA-4042-BA17-842002B6AA7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550F39-FDB8-4A7B-AD3F-4865CF3BF5F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81536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904E4-15C1-44D4-97B0-2EA1A03FE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838080" y="-360"/>
            <a:ext cx="8305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A5745C-548D-441D-84D7-17FF0CF15CB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015880" y="137124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837720" y="407772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326A19-C55A-4F60-B8F7-032147E05B9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01588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015880" y="407772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DEAB65-F7E6-4586-AF92-6D3E6D68B36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01588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837720" y="4077720"/>
            <a:ext cx="8153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23E05F-325B-4FAE-A120-7472F1FEFBC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8153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837720" y="4077720"/>
            <a:ext cx="8153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E71AB5-7647-4BDC-B4BC-C724A18D3F0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588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837720" y="407772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015880" y="407772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750A98-0495-4F63-9F02-7ABA48B798C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94600" y="13712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351120" y="13712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837720" y="407772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94600" y="407772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351120" y="407772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8F45BB-8742-4C28-B8E9-31D3674FD99E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837720" y="1371240"/>
            <a:ext cx="815364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81536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15880" y="137124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93AF5-C193-4CD5-9107-DF11A63E3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015880" y="137124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838080" y="-360"/>
            <a:ext cx="8305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015880" y="137124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37720" y="407772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01588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015880" y="407772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01588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37720" y="4077720"/>
            <a:ext cx="8153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8153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837720" y="4077720"/>
            <a:ext cx="8153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588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837720" y="407772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5015880" y="407772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594600" y="13712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351120" y="13712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837720" y="407772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594600" y="407772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351120" y="407772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E42E5-6571-427E-9F69-6DD4055777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A618A-07AE-4D08-AE74-A925145CD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837720" y="1371240"/>
            <a:ext cx="815364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F310C-FB0A-4D68-903D-7276355EF6CF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81536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B21E4-4D12-49DF-A218-898FB27148E9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015880" y="137124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2FF88-04EF-4CF2-A031-9F31AEFCE852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1F947-DEBC-488A-B0C4-95100F7E66A9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838080" y="-360"/>
            <a:ext cx="8305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46D05-2B2E-4CB7-B233-25178E4F6E7B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15880" y="137124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837720" y="407772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4BF86-9911-4D04-9E77-85DD1A57AC4E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01588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5015880" y="407772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D6B46-8B95-4FF6-84B9-B732778674CC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01588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837720" y="4077720"/>
            <a:ext cx="8153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7B9E8-9AB5-40F7-BF80-0396C6B7FFAD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8153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837720" y="4077720"/>
            <a:ext cx="8153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D745A-36E3-4ABC-B8DB-0DD3E9AFF140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01588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837720" y="407772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5015880" y="407772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46EB3-36C7-4080-9EF8-54C03C75C6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-360"/>
            <a:ext cx="8305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19D71-A627-4DDC-BA5F-3EACFF79B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594600" y="13712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351120" y="13712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837720" y="407772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594600" y="407772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351120" y="407772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E4C7B-BE39-4C07-8E11-14F90A6F3D4B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448739B-23C4-417C-BEC8-400A47EB9DCE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837720" y="1371240"/>
            <a:ext cx="815364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286FF40-DFFD-4209-B723-790AA72A7DD7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81536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F8FACB4-615E-49B9-A33A-9CC9280EEFEC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5015880" y="137124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1AD04E8-3151-49A9-9601-90D1779BC472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3CE3FAF-9277-4585-8C4A-A8D3506F42F7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838080" y="-360"/>
            <a:ext cx="8305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94D2883-4F22-4633-985A-1F232A4DE84A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015880" y="137124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837720" y="407772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1E19331-F57F-4BBD-B3D0-13B8AD99B3BD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501588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5015880" y="407772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D114C1A-2670-484A-94E3-5F65F44F3B8D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501588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37720" y="4077720"/>
            <a:ext cx="8153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E67A19F-A13D-4E5F-8546-7968252FA2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15880" y="137124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7720" y="407772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9FD69-60A5-45E2-A502-8A58F1584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8153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837720" y="4077720"/>
            <a:ext cx="8153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589A5D6-72C7-43F8-AD56-6BC5011E16AA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01588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837720" y="407772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5015880" y="407772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4D34750-BC39-4578-A69E-BA85527093EF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594600" y="13712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351120" y="13712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837720" y="407772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594600" y="407772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351120" y="407772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62F926D-4210-4A55-A245-2E36D010D71C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FA2CFD4-8171-4978-A422-66729400D5C4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37720" y="1371240"/>
            <a:ext cx="815364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AE95E3B-459F-4B9E-B3AC-2926D3EC0054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81536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38F35D7-1F25-431A-BE0B-44D990109D35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5015880" y="137124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A41690B-22CE-4C6A-870D-841F30496AFE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F3A9CC-06C3-4B47-9476-3D15A4EA086E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838080" y="-360"/>
            <a:ext cx="8305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F48A9F7-CC2E-4281-B0CF-82C4C79247B8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015880" y="137124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37720" y="407772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39DE496-2CE1-4DFF-877B-8D8EDE694F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1588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15880" y="407772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D4859-E75D-4DD5-8FBC-A97B9DBF6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588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5015880" y="407772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2813F9-7B75-4F7B-8CB5-8173C7CFFB30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01588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37720" y="4077720"/>
            <a:ext cx="8153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A9CF14D-4DDE-48D7-B37B-48A43DD77BFD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8153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37720" y="4077720"/>
            <a:ext cx="8153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F203C71-5297-4D94-8AB7-27CAFC1B5D8A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01588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37720" y="407772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5015880" y="407772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AA89CDC-8437-4515-9CFF-AA3EF7814950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594600" y="13712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351120" y="13712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37720" y="407772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594600" y="407772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351120" y="407772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0A1AE60-A817-496A-B1E2-FE30450765B5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5A0B88-0012-4593-8EFB-91B6F8BF50CB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837720" y="1371240"/>
            <a:ext cx="815364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E70561-2DCE-4241-AF28-B6CDA925CD53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81536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067E30-B469-4765-94C5-4F372501C3C4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5015880" y="137124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1D188C-46DF-4C98-AA65-65E20ADCBFC9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9940F8-B6D1-426D-BD6A-5B2DD9C03F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1588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7720" y="4077720"/>
            <a:ext cx="8153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4D928-8B6B-4A13-ABC4-57E386254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838080" y="-360"/>
            <a:ext cx="8305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CBD233-4A39-4570-B762-FC73613A68B9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5015880" y="137124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837720" y="407772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4D233B-49CE-418A-89C0-258FD9B0EB5E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501588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5015880" y="407772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4885E0-C65C-4A7B-A935-3CF06477FBCA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501588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837720" y="4077720"/>
            <a:ext cx="8153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FE2A1B-C985-422C-ABB9-81A52D9E0633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8153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837720" y="4077720"/>
            <a:ext cx="8153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11C954-7BE7-496F-B08C-10D05E1F71C8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01588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37720" y="407772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5015880" y="407772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1A7DD9-2877-41D6-B536-994840A85EE9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594600" y="13712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351120" y="13712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837720" y="407772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594600" y="407772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351120" y="407772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B46D88-E644-43E3-839D-2A4AB066CF69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0A91103-54D3-447B-8193-B87D0D400000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837720" y="1371240"/>
            <a:ext cx="815364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05D7460-32F0-408B-9DF6-96E5BB99B617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81536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6BFECBB-095C-4CE9-88AD-231C7E1C63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4B5BC-8C26-4508-8B4A-5BFE6B55D1AE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89C18-23DE-4461-8781-CECEA234DE8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9" name="Object 3"/>
          <p:cNvGraphicFramePr/>
          <p:nvPr/>
        </p:nvGraphicFramePr>
        <p:xfrm>
          <a:off x="0" y="0"/>
          <a:ext cx="849240" cy="685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70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84924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837720" y="1371240"/>
            <a:ext cx="81536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Num" idx="11"/>
          </p:nvPr>
        </p:nvSpPr>
        <p:spPr>
          <a:xfrm>
            <a:off x="151920" y="6534000"/>
            <a:ext cx="68580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3307E-DC8C-41BE-8C31-C3CB87D29931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0" name="Object 3"/>
          <p:cNvGraphicFramePr/>
          <p:nvPr/>
        </p:nvGraphicFramePr>
        <p:xfrm>
          <a:off x="0" y="0"/>
          <a:ext cx="849240" cy="685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11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84924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837720" y="1371240"/>
            <a:ext cx="81536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 type="sldNum" idx="12"/>
          </p:nvPr>
        </p:nvSpPr>
        <p:spPr>
          <a:xfrm>
            <a:off x="151920" y="6534000"/>
            <a:ext cx="68580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F3C5C-20F7-442D-9945-9392CD83A501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1" name="Object 3"/>
          <p:cNvGraphicFramePr/>
          <p:nvPr/>
        </p:nvGraphicFramePr>
        <p:xfrm>
          <a:off x="0" y="0"/>
          <a:ext cx="849240" cy="685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2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84924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837720" y="1371240"/>
            <a:ext cx="81536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 type="sldNum" idx="13"/>
          </p:nvPr>
        </p:nvSpPr>
        <p:spPr>
          <a:xfrm>
            <a:off x="151920" y="6534000"/>
            <a:ext cx="68580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3011F-A205-4424-A478-DBF600CA5E5A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2" name="Object 5"/>
          <p:cNvGraphicFramePr/>
          <p:nvPr/>
        </p:nvGraphicFramePr>
        <p:xfrm>
          <a:off x="0" y="0"/>
          <a:ext cx="849240" cy="685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93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84924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837720" y="1371240"/>
            <a:ext cx="81536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 type="sldNum" idx="14"/>
          </p:nvPr>
        </p:nvSpPr>
        <p:spPr>
          <a:xfrm>
            <a:off x="151920" y="6534000"/>
            <a:ext cx="68580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65494-89E3-4A55-ACDA-1B40B6D03786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3" name="Object 5"/>
          <p:cNvGraphicFramePr/>
          <p:nvPr/>
        </p:nvGraphicFramePr>
        <p:xfrm>
          <a:off x="0" y="0"/>
          <a:ext cx="849240" cy="685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34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84924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837720" y="1371240"/>
            <a:ext cx="81536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 type="sldNum" idx="15"/>
          </p:nvPr>
        </p:nvSpPr>
        <p:spPr>
          <a:xfrm>
            <a:off x="151920" y="6534000"/>
            <a:ext cx="68580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05164-32C9-4035-B0C8-E5FD8C774D5F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4" name="Picture 2" descr="ppt-bckgrd-build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75" name="Rectangle 5"/>
          <p:cNvSpPr/>
          <p:nvPr/>
        </p:nvSpPr>
        <p:spPr>
          <a:xfrm>
            <a:off x="152280" y="6553080"/>
            <a:ext cx="266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837720" y="1371240"/>
            <a:ext cx="81536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Object 2"/>
          <p:cNvGraphicFramePr/>
          <p:nvPr/>
        </p:nvGraphicFramePr>
        <p:xfrm>
          <a:off x="0" y="0"/>
          <a:ext cx="849240" cy="685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2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84924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837720" y="1371240"/>
            <a:ext cx="81536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4"/>
          </p:nvPr>
        </p:nvSpPr>
        <p:spPr>
          <a:xfrm>
            <a:off x="151920" y="6534000"/>
            <a:ext cx="68580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1-</a:t>
            </a:r>
            <a:fld id="{FEFACD7A-95CB-48D9-9676-D4939BE073D5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" name="Object 2"/>
          <p:cNvGraphicFramePr/>
          <p:nvPr/>
        </p:nvGraphicFramePr>
        <p:xfrm>
          <a:off x="0" y="0"/>
          <a:ext cx="849240" cy="685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3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84924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837720" y="1371240"/>
            <a:ext cx="81536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5"/>
          </p:nvPr>
        </p:nvSpPr>
        <p:spPr>
          <a:xfrm>
            <a:off x="151920" y="6534000"/>
            <a:ext cx="68580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9DAEA-5025-4014-8FDE-BA7496835DE8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ppt-bckgrd-build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5"/>
          <p:cNvSpPr/>
          <p:nvPr/>
        </p:nvSpPr>
        <p:spPr>
          <a:xfrm>
            <a:off x="152280" y="6553080"/>
            <a:ext cx="266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6"/>
          <p:cNvSpPr/>
          <p:nvPr/>
        </p:nvSpPr>
        <p:spPr>
          <a:xfrm>
            <a:off x="3733920" y="655308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Copyright</a:t>
            </a: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© 2010 by The McGraw-Hill Companies, Inc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837720" y="1371240"/>
            <a:ext cx="81536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4" name="Object 5"/>
          <p:cNvGraphicFramePr/>
          <p:nvPr/>
        </p:nvGraphicFramePr>
        <p:xfrm>
          <a:off x="0" y="0"/>
          <a:ext cx="849240" cy="685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5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84924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837720" y="1371240"/>
            <a:ext cx="81536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Num" idx="6"/>
          </p:nvPr>
        </p:nvSpPr>
        <p:spPr>
          <a:xfrm>
            <a:off x="151920" y="6534000"/>
            <a:ext cx="68580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04062-3961-4168-894F-0C67C1653310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5" name="Object 5"/>
          <p:cNvGraphicFramePr/>
          <p:nvPr/>
        </p:nvGraphicFramePr>
        <p:xfrm>
          <a:off x="0" y="0"/>
          <a:ext cx="849240" cy="685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6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84924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837720" y="1371240"/>
            <a:ext cx="81536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sldNum" idx="7"/>
          </p:nvPr>
        </p:nvSpPr>
        <p:spPr>
          <a:xfrm>
            <a:off x="151920" y="6534000"/>
            <a:ext cx="68580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56964-C526-4A5A-8DC6-D60E8CB632F0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6" name="Object 3"/>
          <p:cNvGraphicFramePr/>
          <p:nvPr/>
        </p:nvGraphicFramePr>
        <p:xfrm>
          <a:off x="0" y="0"/>
          <a:ext cx="849240" cy="685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47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84924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837720" y="1371240"/>
            <a:ext cx="81536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8"/>
          </p:nvPr>
        </p:nvSpPr>
        <p:spPr>
          <a:xfrm>
            <a:off x="151920" y="6534000"/>
            <a:ext cx="68580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DF857-0691-4248-8567-1C62E0A0D2F7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7" name="Object 3"/>
          <p:cNvGraphicFramePr/>
          <p:nvPr/>
        </p:nvGraphicFramePr>
        <p:xfrm>
          <a:off x="0" y="0"/>
          <a:ext cx="849240" cy="685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88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84924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837720" y="1371240"/>
            <a:ext cx="81536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sldNum" idx="9"/>
          </p:nvPr>
        </p:nvSpPr>
        <p:spPr>
          <a:xfrm>
            <a:off x="151920" y="6534000"/>
            <a:ext cx="68580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04C21-A892-4C43-9CF8-0BE1E4FACAA1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8" name="Object 3"/>
          <p:cNvGraphicFramePr/>
          <p:nvPr/>
        </p:nvGraphicFramePr>
        <p:xfrm>
          <a:off x="0" y="0"/>
          <a:ext cx="849240" cy="685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29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84924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837720" y="1371240"/>
            <a:ext cx="81536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sldNum" idx="10"/>
          </p:nvPr>
        </p:nvSpPr>
        <p:spPr>
          <a:xfrm>
            <a:off x="151920" y="6534000"/>
            <a:ext cx="68580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05F48-7151-4C8C-B060-9BF727ED4AA7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Text Box 7"/>
          <p:cNvSpPr/>
          <p:nvPr/>
        </p:nvSpPr>
        <p:spPr>
          <a:xfrm>
            <a:off x="2413080" y="3095640"/>
            <a:ext cx="6553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The Market System and the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Circular Flow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TextBox 4"/>
          <p:cNvSpPr/>
          <p:nvPr/>
        </p:nvSpPr>
        <p:spPr>
          <a:xfrm>
            <a:off x="4229280" y="0"/>
            <a:ext cx="4724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Chapter 2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Text Box 4"/>
          <p:cNvSpPr/>
          <p:nvPr/>
        </p:nvSpPr>
        <p:spPr>
          <a:xfrm>
            <a:off x="-171360" y="6546960"/>
            <a:ext cx="181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Text Box 5"/>
          <p:cNvSpPr/>
          <p:nvPr/>
        </p:nvSpPr>
        <p:spPr>
          <a:xfrm>
            <a:off x="3527280" y="6566040"/>
            <a:ext cx="5731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        </a:t>
            </a: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Copyright © 2009 by The McGraw-Hill Companies, Inc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825120" y="0"/>
            <a:ext cx="8318520" cy="119376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Invisible H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 txBox="1"/>
          <p:nvPr/>
        </p:nvSpPr>
        <p:spPr>
          <a:xfrm>
            <a:off x="1079640" y="1501920"/>
            <a:ext cx="7835760" cy="47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776 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ealth of Nations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y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am Smit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nity of private and social intere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irtues of the market syste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ffici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cen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reedo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Rectangle 4"/>
          <p:cNvSpPr/>
          <p:nvPr/>
        </p:nvSpPr>
        <p:spPr>
          <a:xfrm>
            <a:off x="6781680" y="64389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-</a:t>
            </a:r>
            <a:fld id="{D538CA91-251D-4E16-9646-3A2C0FE99E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nodeType="clickEffect" fill="hold">
                      <p:stCondLst>
                        <p:cond delay="0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9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500"/>
                                        <p:tgtEl>
                                          <p:spTgt spid="6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5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5" dur="500"/>
                                        <p:tgtEl>
                                          <p:spTgt spid="6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8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5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1" dur="500"/>
                                        <p:tgtEl>
                                          <p:spTgt spid="6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5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7" dur="500"/>
                                        <p:tgtEl>
                                          <p:spTgt spid="6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9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5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3" dur="500"/>
                                        <p:tgtEl>
                                          <p:spTgt spid="6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56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07" dur="1" fill="hold"/>
                                  <p:tgtEl>
                                    <p:spTgt spid="65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25748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Command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 txBox="1"/>
          <p:nvPr/>
        </p:nvSpPr>
        <p:spPr>
          <a:xfrm>
            <a:off x="1218960" y="1440000"/>
            <a:ext cx="7607160" cy="51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viet Union, Eastern Europe, Chin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ystem was a fail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coordination proble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t output targets for all goo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incentive proble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o adjustments for shortage or surpl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Rectangle 4"/>
          <p:cNvSpPr/>
          <p:nvPr/>
        </p:nvSpPr>
        <p:spPr>
          <a:xfrm>
            <a:off x="6781680" y="64389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-</a:t>
            </a:r>
            <a:fld id="{2C25FCD0-B81E-4862-A535-9DC4BB4BEA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nodeType="clickEffect" fill="hold">
                      <p:stCondLst>
                        <p:cond delay="0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4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9" dur="500"/>
                                        <p:tgtEl>
                                          <p:spTgt spid="6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" dur="500"/>
                                        <p:tgtEl>
                                          <p:spTgt spid="6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5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0" dur="500"/>
                                        <p:tgtEl>
                                          <p:spTgt spid="6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5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6" dur="500"/>
                                        <p:tgtEl>
                                          <p:spTgt spid="6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5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2" dur="500"/>
                                        <p:tgtEl>
                                          <p:spTgt spid="6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5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8" dur="500"/>
                                        <p:tgtEl>
                                          <p:spTgt spid="6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5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52" dur="1" fill="hold"/>
                                  <p:tgtEl>
                                    <p:spTgt spid="659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ircular Flow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Rectangle 24"/>
          <p:cNvSpPr/>
          <p:nvPr/>
        </p:nvSpPr>
        <p:spPr>
          <a:xfrm>
            <a:off x="4683240" y="1476360"/>
            <a:ext cx="1293840" cy="966960"/>
          </a:xfrm>
          <a:prstGeom prst="rect">
            <a:avLst/>
          </a:pr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ou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r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Rectangle 25"/>
          <p:cNvSpPr/>
          <p:nvPr/>
        </p:nvSpPr>
        <p:spPr>
          <a:xfrm>
            <a:off x="4721400" y="5308560"/>
            <a:ext cx="1293480" cy="966960"/>
          </a:xfrm>
          <a:prstGeom prst="rect">
            <a:avLst/>
          </a:pr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du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r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Rectangle 9"/>
          <p:cNvSpPr/>
          <p:nvPr/>
        </p:nvSpPr>
        <p:spPr>
          <a:xfrm>
            <a:off x="1714680" y="3416400"/>
            <a:ext cx="1333440" cy="966600"/>
          </a:xfrm>
          <a:prstGeom prst="rect">
            <a:avLst/>
          </a:prstGeom>
          <a:solidFill>
            <a:srgbClr val="66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usin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Rectangle 50"/>
          <p:cNvSpPr/>
          <p:nvPr/>
        </p:nvSpPr>
        <p:spPr>
          <a:xfrm>
            <a:off x="7550280" y="3416400"/>
            <a:ext cx="1415880" cy="966600"/>
          </a:xfrm>
          <a:prstGeom prst="rect">
            <a:avLst/>
          </a:prstGeom>
          <a:solidFill>
            <a:srgbClr val="66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ousehol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Rectangle 7"/>
          <p:cNvSpPr/>
          <p:nvPr/>
        </p:nvSpPr>
        <p:spPr>
          <a:xfrm>
            <a:off x="6781680" y="64389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-</a:t>
            </a:r>
            <a:fld id="{B8120FE4-7055-4193-AC8B-D60327063A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nodeType="clickEffect" fill="hold">
                      <p:stCondLst>
                        <p:cond delay="0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WordArt 43"/>
          <p:cNvSpPr txBox="1"/>
          <p:nvPr/>
        </p:nvSpPr>
        <p:spPr>
          <a:xfrm rot="19236000">
            <a:off x="2033640" y="1798200"/>
            <a:ext cx="824040" cy="21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968265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Cost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668" name="WordArt 44"/>
          <p:cNvSpPr txBox="1"/>
          <p:nvPr/>
        </p:nvSpPr>
        <p:spPr>
          <a:xfrm rot="1800000">
            <a:off x="7176600" y="1714320"/>
            <a:ext cx="1791000" cy="7254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255438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Money Inc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669" name="WordArt 48"/>
          <p:cNvSpPr txBox="1"/>
          <p:nvPr/>
        </p:nvSpPr>
        <p:spPr>
          <a:xfrm rot="1800000">
            <a:off x="1933200" y="5865840"/>
            <a:ext cx="127476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Revenu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670" name="WordArt 50"/>
          <p:cNvSpPr txBox="1"/>
          <p:nvPr/>
        </p:nvSpPr>
        <p:spPr>
          <a:xfrm rot="19921200">
            <a:off x="7429680" y="5817960"/>
            <a:ext cx="1447560" cy="529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Consumptio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ircular Flow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2" name="Group 3"/>
          <p:cNvGrpSpPr/>
          <p:nvPr/>
        </p:nvGrpSpPr>
        <p:grpSpPr>
          <a:xfrm>
            <a:off x="2049480" y="1660680"/>
            <a:ext cx="6640200" cy="4471560"/>
            <a:chOff x="2049480" y="1660680"/>
            <a:chExt cx="6640200" cy="4471560"/>
          </a:xfrm>
        </p:grpSpPr>
        <p:sp>
          <p:nvSpPr>
            <p:cNvPr id="673" name="AutoShape 4"/>
            <p:cNvSpPr/>
            <p:nvPr/>
          </p:nvSpPr>
          <p:spPr>
            <a:xfrm>
              <a:off x="2239920" y="1839960"/>
              <a:ext cx="6256440" cy="4119480"/>
            </a:xfrm>
            <a:prstGeom prst="roundRect">
              <a:avLst>
                <a:gd name="adj" fmla="val 16667"/>
              </a:avLst>
            </a:prstGeom>
            <a:noFill/>
            <a:ln w="228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74" name="Group 5"/>
            <p:cNvGrpSpPr/>
            <p:nvPr/>
          </p:nvGrpSpPr>
          <p:grpSpPr>
            <a:xfrm>
              <a:off x="4506480" y="1660680"/>
              <a:ext cx="360720" cy="358560"/>
              <a:chOff x="4506480" y="1660680"/>
              <a:chExt cx="360720" cy="358560"/>
            </a:xfrm>
          </p:grpSpPr>
          <p:sp>
            <p:nvSpPr>
              <p:cNvPr id="675" name="Rectangle 6"/>
              <p:cNvSpPr/>
              <p:nvPr/>
            </p:nvSpPr>
            <p:spPr>
              <a:xfrm>
                <a:off x="4516200" y="1665360"/>
                <a:ext cx="351000" cy="350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AutoShape 7"/>
              <p:cNvSpPr/>
              <p:nvPr/>
            </p:nvSpPr>
            <p:spPr>
              <a:xfrm rot="5400000">
                <a:off x="4434840" y="1731960"/>
                <a:ext cx="358560" cy="215640"/>
              </a:xfrm>
              <a:prstGeom prst="triangle">
                <a:avLst>
                  <a:gd name="adj" fmla="val 50000"/>
                </a:avLst>
              </a:prstGeom>
              <a:solidFill>
                <a:srgbClr val="66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0" bIns="25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7" name="Group 8"/>
            <p:cNvGrpSpPr/>
            <p:nvPr/>
          </p:nvGrpSpPr>
          <p:grpSpPr>
            <a:xfrm>
              <a:off x="2049480" y="4282920"/>
              <a:ext cx="369360" cy="311040"/>
              <a:chOff x="2049480" y="4282920"/>
              <a:chExt cx="369360" cy="311040"/>
            </a:xfrm>
          </p:grpSpPr>
          <p:sp>
            <p:nvSpPr>
              <p:cNvPr id="678" name="Rectangle 9"/>
              <p:cNvSpPr/>
              <p:nvPr/>
            </p:nvSpPr>
            <p:spPr>
              <a:xfrm>
                <a:off x="2049480" y="4282920"/>
                <a:ext cx="350640" cy="298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AutoShape 10"/>
              <p:cNvSpPr/>
              <p:nvPr/>
            </p:nvSpPr>
            <p:spPr>
              <a:xfrm>
                <a:off x="2060280" y="4378320"/>
                <a:ext cx="358560" cy="215640"/>
              </a:xfrm>
              <a:prstGeom prst="triangle">
                <a:avLst>
                  <a:gd name="adj" fmla="val 50000"/>
                </a:avLst>
              </a:prstGeom>
              <a:solidFill>
                <a:srgbClr val="66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0" bIns="25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80" name="Group 11"/>
            <p:cNvGrpSpPr/>
            <p:nvPr/>
          </p:nvGrpSpPr>
          <p:grpSpPr>
            <a:xfrm>
              <a:off x="8317080" y="3205080"/>
              <a:ext cx="372600" cy="304920"/>
              <a:chOff x="8317080" y="3205080"/>
              <a:chExt cx="372600" cy="304920"/>
            </a:xfrm>
          </p:grpSpPr>
          <p:sp>
            <p:nvSpPr>
              <p:cNvPr id="681" name="Rectangle 12"/>
              <p:cNvSpPr/>
              <p:nvPr/>
            </p:nvSpPr>
            <p:spPr>
              <a:xfrm>
                <a:off x="8339040" y="3211560"/>
                <a:ext cx="350640" cy="298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2" name="AutoShape 13"/>
              <p:cNvSpPr/>
              <p:nvPr/>
            </p:nvSpPr>
            <p:spPr>
              <a:xfrm rot="10800000">
                <a:off x="8317080" y="3205080"/>
                <a:ext cx="358560" cy="216000"/>
              </a:xfrm>
              <a:prstGeom prst="triangle">
                <a:avLst>
                  <a:gd name="adj" fmla="val 50000"/>
                </a:avLst>
              </a:prstGeom>
              <a:solidFill>
                <a:srgbClr val="66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0" bIns="25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83" name="Group 14"/>
            <p:cNvGrpSpPr/>
            <p:nvPr/>
          </p:nvGrpSpPr>
          <p:grpSpPr>
            <a:xfrm>
              <a:off x="5878440" y="5773680"/>
              <a:ext cx="357120" cy="358560"/>
              <a:chOff x="5878440" y="5773680"/>
              <a:chExt cx="357120" cy="358560"/>
            </a:xfrm>
          </p:grpSpPr>
          <p:sp>
            <p:nvSpPr>
              <p:cNvPr id="684" name="Rectangle 15"/>
              <p:cNvSpPr/>
              <p:nvPr/>
            </p:nvSpPr>
            <p:spPr>
              <a:xfrm>
                <a:off x="5878440" y="5822640"/>
                <a:ext cx="351000" cy="298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" name="AutoShape 16"/>
              <p:cNvSpPr/>
              <p:nvPr/>
            </p:nvSpPr>
            <p:spPr>
              <a:xfrm rot="16200000">
                <a:off x="5948280" y="5844960"/>
                <a:ext cx="358560" cy="215640"/>
              </a:xfrm>
              <a:prstGeom prst="triangle">
                <a:avLst>
                  <a:gd name="adj" fmla="val 50000"/>
                </a:avLst>
              </a:prstGeom>
              <a:solidFill>
                <a:srgbClr val="66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0" bIns="25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6" name="Rectangle 17"/>
          <p:cNvSpPr/>
          <p:nvPr/>
        </p:nvSpPr>
        <p:spPr>
          <a:xfrm>
            <a:off x="6024600" y="4384800"/>
            <a:ext cx="2793960" cy="175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Rectangle 19"/>
          <p:cNvSpPr/>
          <p:nvPr/>
        </p:nvSpPr>
        <p:spPr>
          <a:xfrm>
            <a:off x="1928880" y="1660680"/>
            <a:ext cx="2793960" cy="175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Rectangle 18"/>
          <p:cNvSpPr/>
          <p:nvPr/>
        </p:nvSpPr>
        <p:spPr>
          <a:xfrm>
            <a:off x="1919160" y="4384800"/>
            <a:ext cx="2793960" cy="175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Rectangle 20"/>
          <p:cNvSpPr/>
          <p:nvPr/>
        </p:nvSpPr>
        <p:spPr>
          <a:xfrm>
            <a:off x="6014880" y="1670040"/>
            <a:ext cx="2794320" cy="175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0" name="Group 21"/>
          <p:cNvGrpSpPr/>
          <p:nvPr/>
        </p:nvGrpSpPr>
        <p:grpSpPr>
          <a:xfrm>
            <a:off x="2436480" y="2004480"/>
            <a:ext cx="5856480" cy="3799080"/>
            <a:chOff x="2436480" y="2004480"/>
            <a:chExt cx="5856480" cy="3799080"/>
          </a:xfrm>
        </p:grpSpPr>
        <p:sp>
          <p:nvSpPr>
            <p:cNvPr id="691" name="AutoShape 22"/>
            <p:cNvSpPr/>
            <p:nvPr/>
          </p:nvSpPr>
          <p:spPr>
            <a:xfrm>
              <a:off x="2614680" y="2171880"/>
              <a:ext cx="5506920" cy="3455640"/>
            </a:xfrm>
            <a:prstGeom prst="roundRect">
              <a:avLst>
                <a:gd name="adj" fmla="val 12361"/>
              </a:avLst>
            </a:prstGeom>
            <a:noFill/>
            <a:ln w="228600">
              <a:solidFill>
                <a:srgbClr val="66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92" name="Group 23"/>
            <p:cNvGrpSpPr/>
            <p:nvPr/>
          </p:nvGrpSpPr>
          <p:grpSpPr>
            <a:xfrm>
              <a:off x="2436480" y="3203280"/>
              <a:ext cx="368640" cy="311040"/>
              <a:chOff x="2436480" y="3203280"/>
              <a:chExt cx="368640" cy="311040"/>
            </a:xfrm>
          </p:grpSpPr>
          <p:sp>
            <p:nvSpPr>
              <p:cNvPr id="693" name="Rectangle 24"/>
              <p:cNvSpPr/>
              <p:nvPr/>
            </p:nvSpPr>
            <p:spPr>
              <a:xfrm>
                <a:off x="2454120" y="3216240"/>
                <a:ext cx="351000" cy="298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" name="AutoShape 25"/>
              <p:cNvSpPr/>
              <p:nvPr/>
            </p:nvSpPr>
            <p:spPr>
              <a:xfrm rot="10800000">
                <a:off x="2436480" y="3203280"/>
                <a:ext cx="358920" cy="215640"/>
              </a:xfrm>
              <a:prstGeom prst="triangle">
                <a:avLst>
                  <a:gd name="adj" fmla="val 50000"/>
                </a:avLst>
              </a:prstGeom>
              <a:solidFill>
                <a:srgbClr val="66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0" bIns="25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5" name="Group 26"/>
            <p:cNvGrpSpPr/>
            <p:nvPr/>
          </p:nvGrpSpPr>
          <p:grpSpPr>
            <a:xfrm>
              <a:off x="7929720" y="4280040"/>
              <a:ext cx="363240" cy="309600"/>
              <a:chOff x="7929720" y="4280040"/>
              <a:chExt cx="363240" cy="309600"/>
            </a:xfrm>
          </p:grpSpPr>
          <p:sp>
            <p:nvSpPr>
              <p:cNvPr id="696" name="Rectangle 27"/>
              <p:cNvSpPr/>
              <p:nvPr/>
            </p:nvSpPr>
            <p:spPr>
              <a:xfrm>
                <a:off x="7929720" y="4280040"/>
                <a:ext cx="350640" cy="298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" name="AutoShape 28"/>
              <p:cNvSpPr/>
              <p:nvPr/>
            </p:nvSpPr>
            <p:spPr>
              <a:xfrm>
                <a:off x="7934400" y="4373640"/>
                <a:ext cx="358560" cy="216000"/>
              </a:xfrm>
              <a:prstGeom prst="triangle">
                <a:avLst>
                  <a:gd name="adj" fmla="val 50000"/>
                </a:avLst>
              </a:prstGeom>
              <a:solidFill>
                <a:srgbClr val="66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0" bIns="25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8" name="Group 29"/>
            <p:cNvGrpSpPr/>
            <p:nvPr/>
          </p:nvGrpSpPr>
          <p:grpSpPr>
            <a:xfrm>
              <a:off x="5872320" y="2004480"/>
              <a:ext cx="360360" cy="358920"/>
              <a:chOff x="5872320" y="2004480"/>
              <a:chExt cx="360360" cy="358920"/>
            </a:xfrm>
          </p:grpSpPr>
          <p:sp>
            <p:nvSpPr>
              <p:cNvPr id="699" name="Rectangle 30"/>
              <p:cNvSpPr/>
              <p:nvPr/>
            </p:nvSpPr>
            <p:spPr>
              <a:xfrm>
                <a:off x="5872320" y="2009880"/>
                <a:ext cx="351000" cy="298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AutoShape 31"/>
              <p:cNvSpPr/>
              <p:nvPr/>
            </p:nvSpPr>
            <p:spPr>
              <a:xfrm rot="16200000">
                <a:off x="5945040" y="2075760"/>
                <a:ext cx="358920" cy="216000"/>
              </a:xfrm>
              <a:prstGeom prst="triangle">
                <a:avLst>
                  <a:gd name="adj" fmla="val 50000"/>
                </a:avLst>
              </a:prstGeom>
              <a:solidFill>
                <a:srgbClr val="66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0" bIns="25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1" name="Group 32"/>
            <p:cNvGrpSpPr/>
            <p:nvPr/>
          </p:nvGrpSpPr>
          <p:grpSpPr>
            <a:xfrm>
              <a:off x="4500360" y="5445000"/>
              <a:ext cx="355320" cy="358560"/>
              <a:chOff x="4500360" y="5445000"/>
              <a:chExt cx="355320" cy="358560"/>
            </a:xfrm>
          </p:grpSpPr>
          <p:sp>
            <p:nvSpPr>
              <p:cNvPr id="702" name="Rectangle 33"/>
              <p:cNvSpPr/>
              <p:nvPr/>
            </p:nvSpPr>
            <p:spPr>
              <a:xfrm>
                <a:off x="4505040" y="5492520"/>
                <a:ext cx="350640" cy="298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" name="AutoShape 34"/>
              <p:cNvSpPr/>
              <p:nvPr/>
            </p:nvSpPr>
            <p:spPr>
              <a:xfrm rot="5400000">
                <a:off x="4428720" y="5516280"/>
                <a:ext cx="358560" cy="215640"/>
              </a:xfrm>
              <a:prstGeom prst="triangle">
                <a:avLst>
                  <a:gd name="adj" fmla="val 50000"/>
                </a:avLst>
              </a:prstGeom>
              <a:solidFill>
                <a:srgbClr val="66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0" bIns="25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04" name="Rectangle 35"/>
          <p:cNvSpPr/>
          <p:nvPr/>
        </p:nvSpPr>
        <p:spPr>
          <a:xfrm>
            <a:off x="4721400" y="1514520"/>
            <a:ext cx="1293480" cy="966600"/>
          </a:xfrm>
          <a:prstGeom prst="rect">
            <a:avLst/>
          </a:pr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ou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r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Rectangle 36"/>
          <p:cNvSpPr/>
          <p:nvPr/>
        </p:nvSpPr>
        <p:spPr>
          <a:xfrm>
            <a:off x="4721400" y="5308560"/>
            <a:ext cx="1293480" cy="966960"/>
          </a:xfrm>
          <a:prstGeom prst="rect">
            <a:avLst/>
          </a:pr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du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r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WordArt 47"/>
          <p:cNvSpPr txBox="1"/>
          <p:nvPr/>
        </p:nvSpPr>
        <p:spPr>
          <a:xfrm rot="1800000">
            <a:off x="2700000" y="4765320"/>
            <a:ext cx="1447920" cy="53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Goods &amp; Service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707" name="Rectangle 38"/>
          <p:cNvSpPr/>
          <p:nvPr/>
        </p:nvSpPr>
        <p:spPr>
          <a:xfrm>
            <a:off x="1922400" y="4384800"/>
            <a:ext cx="2793960" cy="210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WordArt 49"/>
          <p:cNvSpPr txBox="1"/>
          <p:nvPr/>
        </p:nvSpPr>
        <p:spPr>
          <a:xfrm rot="19921200">
            <a:off x="6556320" y="4754520"/>
            <a:ext cx="1447920" cy="53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Goods &amp; Service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709" name="Rectangle 39"/>
          <p:cNvSpPr/>
          <p:nvPr/>
        </p:nvSpPr>
        <p:spPr>
          <a:xfrm>
            <a:off x="6021360" y="4384800"/>
            <a:ext cx="2793960" cy="213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Rectangle 41"/>
          <p:cNvSpPr/>
          <p:nvPr/>
        </p:nvSpPr>
        <p:spPr>
          <a:xfrm>
            <a:off x="1714680" y="3416400"/>
            <a:ext cx="1371600" cy="966600"/>
          </a:xfrm>
          <a:prstGeom prst="rect">
            <a:avLst/>
          </a:prstGeom>
          <a:solidFill>
            <a:srgbClr val="66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usin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WordArt 45"/>
          <p:cNvSpPr txBox="1"/>
          <p:nvPr/>
        </p:nvSpPr>
        <p:spPr>
          <a:xfrm rot="2216400">
            <a:off x="6565680" y="2492280"/>
            <a:ext cx="1414440" cy="9954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255438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Input Factor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712" name="WordArt 46"/>
          <p:cNvSpPr txBox="1"/>
          <p:nvPr/>
        </p:nvSpPr>
        <p:spPr>
          <a:xfrm rot="19236000">
            <a:off x="2781000" y="2547720"/>
            <a:ext cx="887400" cy="3254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9682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Resource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713" name="Rectangle 42"/>
          <p:cNvSpPr/>
          <p:nvPr/>
        </p:nvSpPr>
        <p:spPr>
          <a:xfrm>
            <a:off x="7550280" y="3416400"/>
            <a:ext cx="1403280" cy="966600"/>
          </a:xfrm>
          <a:prstGeom prst="rect">
            <a:avLst/>
          </a:prstGeom>
          <a:solidFill>
            <a:srgbClr val="66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ousehol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Rectangle 37"/>
          <p:cNvSpPr/>
          <p:nvPr/>
        </p:nvSpPr>
        <p:spPr>
          <a:xfrm>
            <a:off x="1924200" y="1438200"/>
            <a:ext cx="2793960" cy="197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Rectangle 40"/>
          <p:cNvSpPr/>
          <p:nvPr/>
        </p:nvSpPr>
        <p:spPr>
          <a:xfrm>
            <a:off x="6019920" y="1322280"/>
            <a:ext cx="2867040" cy="208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Rectangle 55"/>
          <p:cNvSpPr/>
          <p:nvPr/>
        </p:nvSpPr>
        <p:spPr>
          <a:xfrm>
            <a:off x="6781680" y="64389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-</a:t>
            </a:r>
            <a:fld id="{884EAF3C-403F-4A87-BAF4-338EE4C7CA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nodeType="clickEffect" fill="hold">
                      <p:stCondLst>
                        <p:cond delay="0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489" dur="10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497" dur="10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05" dur="10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513" dur="10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21" dur="10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529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537" dur="10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545" dur="10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ircular Flow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8" name="Group 3"/>
          <p:cNvGrpSpPr/>
          <p:nvPr/>
        </p:nvGrpSpPr>
        <p:grpSpPr>
          <a:xfrm>
            <a:off x="2049480" y="1660680"/>
            <a:ext cx="6640200" cy="4471560"/>
            <a:chOff x="2049480" y="1660680"/>
            <a:chExt cx="6640200" cy="4471560"/>
          </a:xfrm>
        </p:grpSpPr>
        <p:sp>
          <p:nvSpPr>
            <p:cNvPr id="719" name="AutoShape 4"/>
            <p:cNvSpPr/>
            <p:nvPr/>
          </p:nvSpPr>
          <p:spPr>
            <a:xfrm>
              <a:off x="2239920" y="1839960"/>
              <a:ext cx="6256440" cy="4119480"/>
            </a:xfrm>
            <a:prstGeom prst="roundRect">
              <a:avLst>
                <a:gd name="adj" fmla="val 16667"/>
              </a:avLst>
            </a:prstGeom>
            <a:noFill/>
            <a:ln w="228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20" name="Group 5"/>
            <p:cNvGrpSpPr/>
            <p:nvPr/>
          </p:nvGrpSpPr>
          <p:grpSpPr>
            <a:xfrm>
              <a:off x="4506480" y="1660680"/>
              <a:ext cx="360720" cy="358560"/>
              <a:chOff x="4506480" y="1660680"/>
              <a:chExt cx="360720" cy="358560"/>
            </a:xfrm>
          </p:grpSpPr>
          <p:sp>
            <p:nvSpPr>
              <p:cNvPr id="721" name="Rectangle 6"/>
              <p:cNvSpPr/>
              <p:nvPr/>
            </p:nvSpPr>
            <p:spPr>
              <a:xfrm>
                <a:off x="4516200" y="1665360"/>
                <a:ext cx="351000" cy="350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2" name="AutoShape 7"/>
              <p:cNvSpPr/>
              <p:nvPr/>
            </p:nvSpPr>
            <p:spPr>
              <a:xfrm rot="5400000">
                <a:off x="4434840" y="1731960"/>
                <a:ext cx="358560" cy="215640"/>
              </a:xfrm>
              <a:prstGeom prst="triangle">
                <a:avLst>
                  <a:gd name="adj" fmla="val 50000"/>
                </a:avLst>
              </a:prstGeom>
              <a:solidFill>
                <a:srgbClr val="66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0" bIns="25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23" name="Group 8"/>
            <p:cNvGrpSpPr/>
            <p:nvPr/>
          </p:nvGrpSpPr>
          <p:grpSpPr>
            <a:xfrm>
              <a:off x="2049480" y="4282920"/>
              <a:ext cx="369360" cy="311040"/>
              <a:chOff x="2049480" y="4282920"/>
              <a:chExt cx="369360" cy="311040"/>
            </a:xfrm>
          </p:grpSpPr>
          <p:sp>
            <p:nvSpPr>
              <p:cNvPr id="724" name="Rectangle 9"/>
              <p:cNvSpPr/>
              <p:nvPr/>
            </p:nvSpPr>
            <p:spPr>
              <a:xfrm>
                <a:off x="2049480" y="4282920"/>
                <a:ext cx="350640" cy="298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5" name="AutoShape 10"/>
              <p:cNvSpPr/>
              <p:nvPr/>
            </p:nvSpPr>
            <p:spPr>
              <a:xfrm>
                <a:off x="2060280" y="4378320"/>
                <a:ext cx="358560" cy="215640"/>
              </a:xfrm>
              <a:prstGeom prst="triangle">
                <a:avLst>
                  <a:gd name="adj" fmla="val 50000"/>
                </a:avLst>
              </a:prstGeom>
              <a:solidFill>
                <a:srgbClr val="66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0" bIns="25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26" name="Group 11"/>
            <p:cNvGrpSpPr/>
            <p:nvPr/>
          </p:nvGrpSpPr>
          <p:grpSpPr>
            <a:xfrm>
              <a:off x="8317080" y="3205080"/>
              <a:ext cx="372600" cy="304920"/>
              <a:chOff x="8317080" y="3205080"/>
              <a:chExt cx="372600" cy="304920"/>
            </a:xfrm>
          </p:grpSpPr>
          <p:sp>
            <p:nvSpPr>
              <p:cNvPr id="727" name="Rectangle 12"/>
              <p:cNvSpPr/>
              <p:nvPr/>
            </p:nvSpPr>
            <p:spPr>
              <a:xfrm>
                <a:off x="8339040" y="3211560"/>
                <a:ext cx="350640" cy="298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8" name="AutoShape 13"/>
              <p:cNvSpPr/>
              <p:nvPr/>
            </p:nvSpPr>
            <p:spPr>
              <a:xfrm rot="10800000">
                <a:off x="8317080" y="3205080"/>
                <a:ext cx="358560" cy="216000"/>
              </a:xfrm>
              <a:prstGeom prst="triangle">
                <a:avLst>
                  <a:gd name="adj" fmla="val 50000"/>
                </a:avLst>
              </a:prstGeom>
              <a:solidFill>
                <a:srgbClr val="66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0" bIns="25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29" name="Group 14"/>
            <p:cNvGrpSpPr/>
            <p:nvPr/>
          </p:nvGrpSpPr>
          <p:grpSpPr>
            <a:xfrm>
              <a:off x="5878440" y="5773680"/>
              <a:ext cx="357120" cy="358560"/>
              <a:chOff x="5878440" y="5773680"/>
              <a:chExt cx="357120" cy="358560"/>
            </a:xfrm>
          </p:grpSpPr>
          <p:sp>
            <p:nvSpPr>
              <p:cNvPr id="730" name="Rectangle 15"/>
              <p:cNvSpPr/>
              <p:nvPr/>
            </p:nvSpPr>
            <p:spPr>
              <a:xfrm>
                <a:off x="5878440" y="5822640"/>
                <a:ext cx="351000" cy="298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1" name="AutoShape 16"/>
              <p:cNvSpPr/>
              <p:nvPr/>
            </p:nvSpPr>
            <p:spPr>
              <a:xfrm rot="16200000">
                <a:off x="5948280" y="5844960"/>
                <a:ext cx="358560" cy="215640"/>
              </a:xfrm>
              <a:prstGeom prst="triangle">
                <a:avLst>
                  <a:gd name="adj" fmla="val 50000"/>
                </a:avLst>
              </a:prstGeom>
              <a:solidFill>
                <a:srgbClr val="66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0" bIns="25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32" name="Group 21"/>
          <p:cNvGrpSpPr/>
          <p:nvPr/>
        </p:nvGrpSpPr>
        <p:grpSpPr>
          <a:xfrm>
            <a:off x="2436480" y="2004480"/>
            <a:ext cx="5856480" cy="3799080"/>
            <a:chOff x="2436480" y="2004480"/>
            <a:chExt cx="5856480" cy="3799080"/>
          </a:xfrm>
        </p:grpSpPr>
        <p:sp>
          <p:nvSpPr>
            <p:cNvPr id="733" name="AutoShape 22"/>
            <p:cNvSpPr/>
            <p:nvPr/>
          </p:nvSpPr>
          <p:spPr>
            <a:xfrm>
              <a:off x="2614680" y="2171880"/>
              <a:ext cx="5506920" cy="3455640"/>
            </a:xfrm>
            <a:prstGeom prst="roundRect">
              <a:avLst>
                <a:gd name="adj" fmla="val 12361"/>
              </a:avLst>
            </a:prstGeom>
            <a:noFill/>
            <a:ln w="228600">
              <a:solidFill>
                <a:srgbClr val="66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4" name="Group 23"/>
            <p:cNvGrpSpPr/>
            <p:nvPr/>
          </p:nvGrpSpPr>
          <p:grpSpPr>
            <a:xfrm>
              <a:off x="2436480" y="3203280"/>
              <a:ext cx="368640" cy="311040"/>
              <a:chOff x="2436480" y="3203280"/>
              <a:chExt cx="368640" cy="311040"/>
            </a:xfrm>
          </p:grpSpPr>
          <p:sp>
            <p:nvSpPr>
              <p:cNvPr id="735" name="Rectangle 24"/>
              <p:cNvSpPr/>
              <p:nvPr/>
            </p:nvSpPr>
            <p:spPr>
              <a:xfrm>
                <a:off x="2454120" y="3216240"/>
                <a:ext cx="351000" cy="298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6" name="AutoShape 25"/>
              <p:cNvSpPr/>
              <p:nvPr/>
            </p:nvSpPr>
            <p:spPr>
              <a:xfrm rot="10800000">
                <a:off x="2436480" y="3203280"/>
                <a:ext cx="358920" cy="215640"/>
              </a:xfrm>
              <a:prstGeom prst="triangle">
                <a:avLst>
                  <a:gd name="adj" fmla="val 50000"/>
                </a:avLst>
              </a:prstGeom>
              <a:solidFill>
                <a:srgbClr val="66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0" bIns="25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37" name="Group 26"/>
            <p:cNvGrpSpPr/>
            <p:nvPr/>
          </p:nvGrpSpPr>
          <p:grpSpPr>
            <a:xfrm>
              <a:off x="7929720" y="4280040"/>
              <a:ext cx="363240" cy="309600"/>
              <a:chOff x="7929720" y="4280040"/>
              <a:chExt cx="363240" cy="309600"/>
            </a:xfrm>
          </p:grpSpPr>
          <p:sp>
            <p:nvSpPr>
              <p:cNvPr id="738" name="Rectangle 27"/>
              <p:cNvSpPr/>
              <p:nvPr/>
            </p:nvSpPr>
            <p:spPr>
              <a:xfrm>
                <a:off x="7929720" y="4280040"/>
                <a:ext cx="350640" cy="298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9" name="AutoShape 28"/>
              <p:cNvSpPr/>
              <p:nvPr/>
            </p:nvSpPr>
            <p:spPr>
              <a:xfrm>
                <a:off x="7934400" y="4373640"/>
                <a:ext cx="358560" cy="216000"/>
              </a:xfrm>
              <a:prstGeom prst="triangle">
                <a:avLst>
                  <a:gd name="adj" fmla="val 50000"/>
                </a:avLst>
              </a:prstGeom>
              <a:solidFill>
                <a:srgbClr val="66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0" bIns="25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0" name="Group 29"/>
            <p:cNvGrpSpPr/>
            <p:nvPr/>
          </p:nvGrpSpPr>
          <p:grpSpPr>
            <a:xfrm>
              <a:off x="5872320" y="2004480"/>
              <a:ext cx="360360" cy="358920"/>
              <a:chOff x="5872320" y="2004480"/>
              <a:chExt cx="360360" cy="358920"/>
            </a:xfrm>
          </p:grpSpPr>
          <p:sp>
            <p:nvSpPr>
              <p:cNvPr id="741" name="Rectangle 30"/>
              <p:cNvSpPr/>
              <p:nvPr/>
            </p:nvSpPr>
            <p:spPr>
              <a:xfrm>
                <a:off x="5872320" y="2009880"/>
                <a:ext cx="351000" cy="298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2" name="AutoShape 31"/>
              <p:cNvSpPr/>
              <p:nvPr/>
            </p:nvSpPr>
            <p:spPr>
              <a:xfrm rot="16200000">
                <a:off x="5945040" y="2075760"/>
                <a:ext cx="358920" cy="216000"/>
              </a:xfrm>
              <a:prstGeom prst="triangle">
                <a:avLst>
                  <a:gd name="adj" fmla="val 50000"/>
                </a:avLst>
              </a:prstGeom>
              <a:solidFill>
                <a:srgbClr val="66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0" bIns="25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3" name="Group 32"/>
            <p:cNvGrpSpPr/>
            <p:nvPr/>
          </p:nvGrpSpPr>
          <p:grpSpPr>
            <a:xfrm>
              <a:off x="4500360" y="5445000"/>
              <a:ext cx="355320" cy="358560"/>
              <a:chOff x="4500360" y="5445000"/>
              <a:chExt cx="355320" cy="358560"/>
            </a:xfrm>
          </p:grpSpPr>
          <p:sp>
            <p:nvSpPr>
              <p:cNvPr id="744" name="Rectangle 33"/>
              <p:cNvSpPr/>
              <p:nvPr/>
            </p:nvSpPr>
            <p:spPr>
              <a:xfrm>
                <a:off x="4505040" y="5492520"/>
                <a:ext cx="350640" cy="298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5" name="AutoShape 34"/>
              <p:cNvSpPr/>
              <p:nvPr/>
            </p:nvSpPr>
            <p:spPr>
              <a:xfrm rot="5400000">
                <a:off x="4428720" y="5516280"/>
                <a:ext cx="358560" cy="215640"/>
              </a:xfrm>
              <a:prstGeom prst="triangle">
                <a:avLst>
                  <a:gd name="adj" fmla="val 50000"/>
                </a:avLst>
              </a:prstGeom>
              <a:solidFill>
                <a:srgbClr val="66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0" bIns="25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46" name="Rectangle 35"/>
          <p:cNvSpPr/>
          <p:nvPr/>
        </p:nvSpPr>
        <p:spPr>
          <a:xfrm>
            <a:off x="4721400" y="1514520"/>
            <a:ext cx="1293480" cy="966600"/>
          </a:xfrm>
          <a:prstGeom prst="rect">
            <a:avLst/>
          </a:pr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ou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r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Rectangle 36"/>
          <p:cNvSpPr/>
          <p:nvPr/>
        </p:nvSpPr>
        <p:spPr>
          <a:xfrm>
            <a:off x="4721400" y="5308560"/>
            <a:ext cx="1293480" cy="966960"/>
          </a:xfrm>
          <a:prstGeom prst="rect">
            <a:avLst/>
          </a:pr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du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r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41"/>
          <p:cNvSpPr/>
          <p:nvPr/>
        </p:nvSpPr>
        <p:spPr>
          <a:xfrm>
            <a:off x="1714680" y="3416400"/>
            <a:ext cx="1396800" cy="966600"/>
          </a:xfrm>
          <a:prstGeom prst="rect">
            <a:avLst/>
          </a:prstGeom>
          <a:solidFill>
            <a:srgbClr val="66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usin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Rectangle 42"/>
          <p:cNvSpPr/>
          <p:nvPr/>
        </p:nvSpPr>
        <p:spPr>
          <a:xfrm>
            <a:off x="7550280" y="3416400"/>
            <a:ext cx="1390680" cy="966600"/>
          </a:xfrm>
          <a:prstGeom prst="rect">
            <a:avLst/>
          </a:prstGeom>
          <a:solidFill>
            <a:srgbClr val="66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ousehol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WordArt 43"/>
          <p:cNvSpPr txBox="1"/>
          <p:nvPr/>
        </p:nvSpPr>
        <p:spPr>
          <a:xfrm rot="19236000">
            <a:off x="2033640" y="1798200"/>
            <a:ext cx="824040" cy="21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968265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Cost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751" name="WordArt 44"/>
          <p:cNvSpPr txBox="1"/>
          <p:nvPr/>
        </p:nvSpPr>
        <p:spPr>
          <a:xfrm rot="1800000">
            <a:off x="7176600" y="1714320"/>
            <a:ext cx="1791000" cy="7254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255438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Money Inc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752" name="WordArt 45"/>
          <p:cNvSpPr txBox="1"/>
          <p:nvPr/>
        </p:nvSpPr>
        <p:spPr>
          <a:xfrm rot="2216400">
            <a:off x="6565680" y="2492280"/>
            <a:ext cx="1414440" cy="9954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255438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Input Factor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753" name="WordArt 46"/>
          <p:cNvSpPr txBox="1"/>
          <p:nvPr/>
        </p:nvSpPr>
        <p:spPr>
          <a:xfrm rot="19236000">
            <a:off x="2781000" y="2547720"/>
            <a:ext cx="887400" cy="3254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9682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Resource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754" name="WordArt 47"/>
          <p:cNvSpPr txBox="1"/>
          <p:nvPr/>
        </p:nvSpPr>
        <p:spPr>
          <a:xfrm rot="1800000">
            <a:off x="2700000" y="4765320"/>
            <a:ext cx="1447920" cy="53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Goods &amp; Service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755" name="WordArt 48"/>
          <p:cNvSpPr txBox="1"/>
          <p:nvPr/>
        </p:nvSpPr>
        <p:spPr>
          <a:xfrm rot="1800000">
            <a:off x="1771560" y="5900400"/>
            <a:ext cx="14162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Revenu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756" name="WordArt 49"/>
          <p:cNvSpPr txBox="1"/>
          <p:nvPr/>
        </p:nvSpPr>
        <p:spPr>
          <a:xfrm rot="19921200">
            <a:off x="6556320" y="4754520"/>
            <a:ext cx="1447920" cy="53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Goods &amp; Service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757" name="WordArt 50"/>
          <p:cNvSpPr txBox="1"/>
          <p:nvPr/>
        </p:nvSpPr>
        <p:spPr>
          <a:xfrm rot="19921200">
            <a:off x="7429680" y="5817960"/>
            <a:ext cx="1447560" cy="529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Consumptio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758" name="Text Box 51" descr=""/>
          <p:cNvPicPr/>
          <p:nvPr/>
        </p:nvPicPr>
        <p:blipFill>
          <a:blip r:embed="rId1"/>
          <a:stretch/>
        </p:blipFill>
        <p:spPr>
          <a:xfrm>
            <a:off x="3700440" y="3054240"/>
            <a:ext cx="3492360" cy="1683000"/>
          </a:xfrm>
          <a:prstGeom prst="rect">
            <a:avLst/>
          </a:prstGeom>
          <a:ln w="0">
            <a:noFill/>
          </a:ln>
        </p:spPr>
      </p:pic>
      <p:sp>
        <p:nvSpPr>
          <p:cNvPr id="759" name="Text Box 44"/>
          <p:cNvSpPr/>
          <p:nvPr/>
        </p:nvSpPr>
        <p:spPr>
          <a:xfrm>
            <a:off x="380880" y="507960"/>
            <a:ext cx="2552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Text Box 45"/>
          <p:cNvSpPr/>
          <p:nvPr/>
        </p:nvSpPr>
        <p:spPr>
          <a:xfrm>
            <a:off x="584280" y="876240"/>
            <a:ext cx="25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2.2; page 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Rectangle 46"/>
          <p:cNvSpPr/>
          <p:nvPr/>
        </p:nvSpPr>
        <p:spPr>
          <a:xfrm>
            <a:off x="6781680" y="64389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-</a:t>
            </a:r>
            <a:fld id="{D718F344-E1C8-4F1D-9529-A77FCB35B8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0" dur="indefinite" restart="never" nodeType="tmRoot">
          <p:childTnLst>
            <p:seq>
              <p:cTn id="551" dur="indefinite" nodeType="mainSeq">
                <p:childTnLst>
                  <p:par>
                    <p:cTn id="552" nodeType="clickEffect" fill="hold">
                      <p:stCondLst>
                        <p:cond delay="0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6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ey Ter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 txBox="1"/>
          <p:nvPr/>
        </p:nvSpPr>
        <p:spPr>
          <a:xfrm>
            <a:off x="952560" y="1333440"/>
            <a:ext cx="40003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nomic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ket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vate proper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edom of enterpri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edom of cho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f-inter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et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k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vision of lab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 txBox="1"/>
          <p:nvPr/>
        </p:nvSpPr>
        <p:spPr>
          <a:xfrm>
            <a:off x="4990680" y="1371240"/>
            <a:ext cx="40006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dium of ex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r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umer sovereign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llar vo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ive destr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visible hand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ircular flow dia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urce mark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duct mark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Rectangle 5"/>
          <p:cNvSpPr/>
          <p:nvPr/>
        </p:nvSpPr>
        <p:spPr>
          <a:xfrm>
            <a:off x="6896160" y="645804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-</a:t>
            </a:r>
            <a:fld id="{00ED1913-F106-4FB9-BE2B-9D20FA9659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nodeType="clickEffect" fill="hold">
                      <p:stCondLst>
                        <p:cond delay="0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3" dur="5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0" dur="5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xt Chapter Preview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Text Box 6"/>
          <p:cNvSpPr/>
          <p:nvPr/>
        </p:nvSpPr>
        <p:spPr>
          <a:xfrm>
            <a:off x="1890720" y="2154240"/>
            <a:ext cx="61326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Demand, Supply, and the Market Equilibrium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Rectangle 4"/>
          <p:cNvSpPr/>
          <p:nvPr/>
        </p:nvSpPr>
        <p:spPr>
          <a:xfrm>
            <a:off x="6781680" y="64389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-</a:t>
            </a:r>
            <a:fld id="{F5B9738D-4398-4B27-B2E2-40801971CC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71" dur="indefinite" restart="never" nodeType="tmRoot">
          <p:childTnLst>
            <p:seq>
              <p:cTn id="572" dur="indefinite" nodeType="mainSeq">
                <p:childTnLst>
                  <p:par>
                    <p:cTn id="573" nodeType="clickEffect" fill="hold">
                      <p:stCondLst>
                        <p:cond delay="0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1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pter 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1117080" y="1275840"/>
            <a:ext cx="783612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conomic syste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rket system characteristic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rket system ques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, how, and wh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nge and progress in the market system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circular flow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Rectangle 4"/>
          <p:cNvSpPr/>
          <p:nvPr/>
        </p:nvSpPr>
        <p:spPr>
          <a:xfrm>
            <a:off x="6781680" y="64389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-</a:t>
            </a:r>
            <a:fld id="{A634D516-BC60-4104-910E-0CF749B53B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1000"/>
                                        <p:tgtEl>
                                          <p:spTgt spid="6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1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1000"/>
                                        <p:tgtEl>
                                          <p:spTgt spid="6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1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1000"/>
                                        <p:tgtEl>
                                          <p:spTgt spid="6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1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1000"/>
                                        <p:tgtEl>
                                          <p:spTgt spid="6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1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1000"/>
                                        <p:tgtEl>
                                          <p:spTgt spid="6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1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2" dur="1" fill="hold"/>
                                  <p:tgtEl>
                                    <p:spTgt spid="619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conomic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 txBox="1"/>
          <p:nvPr/>
        </p:nvSpPr>
        <p:spPr>
          <a:xfrm>
            <a:off x="863280" y="1166760"/>
            <a:ext cx="8280360" cy="553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t of institutional arrang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ordinating mechanis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ffer based on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o owns the factors of p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method directs economic activ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Rectangle 4"/>
          <p:cNvSpPr/>
          <p:nvPr/>
        </p:nvSpPr>
        <p:spPr>
          <a:xfrm>
            <a:off x="6781680" y="64389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-</a:t>
            </a:r>
            <a:fld id="{143E6D47-27EA-4B92-8A02-16286995F1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0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6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2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6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6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2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2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  <p:animClr clrSpc="rgb">
                                <p:cBhvr>
                                  <p:cTn id="8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2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89" dur="1" fill="hold"/>
                                  <p:tgtEl>
                                    <p:spTgt spid="62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conomic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 txBox="1"/>
          <p:nvPr/>
        </p:nvSpPr>
        <p:spPr>
          <a:xfrm>
            <a:off x="1028520" y="1166760"/>
            <a:ext cx="7086600" cy="553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market syste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ivate ownershi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rk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command syste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overnment ownershi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entral planning boa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Rectangle 4"/>
          <p:cNvSpPr/>
          <p:nvPr/>
        </p:nvSpPr>
        <p:spPr>
          <a:xfrm>
            <a:off x="6781680" y="64389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-</a:t>
            </a:r>
            <a:fld id="{304048FC-BF39-40A3-B059-1511E73583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0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6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0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2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6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2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6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2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6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2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6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25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34" dur="1" fill="hold"/>
                                  <p:tgtEl>
                                    <p:spTgt spid="625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dex of Economic Freed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Text Box 5"/>
          <p:cNvSpPr/>
          <p:nvPr/>
        </p:nvSpPr>
        <p:spPr>
          <a:xfrm>
            <a:off x="1916640" y="3413160"/>
            <a:ext cx="93204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Text Box 6"/>
          <p:cNvSpPr/>
          <p:nvPr/>
        </p:nvSpPr>
        <p:spPr>
          <a:xfrm>
            <a:off x="3455640" y="3413160"/>
            <a:ext cx="130680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s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Text Box 7"/>
          <p:cNvSpPr/>
          <p:nvPr/>
        </p:nvSpPr>
        <p:spPr>
          <a:xfrm>
            <a:off x="5065560" y="3413160"/>
            <a:ext cx="130680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s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nf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Text Box 8"/>
          <p:cNvSpPr/>
          <p:nvPr/>
        </p:nvSpPr>
        <p:spPr>
          <a:xfrm>
            <a:off x="6558840" y="3413160"/>
            <a:ext cx="199872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pres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Text Box 9"/>
          <p:cNvSpPr/>
          <p:nvPr/>
        </p:nvSpPr>
        <p:spPr>
          <a:xfrm>
            <a:off x="1306800" y="4218120"/>
            <a:ext cx="1907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- Hong Ko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- Ire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- United St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Text Box 10"/>
          <p:cNvSpPr/>
          <p:nvPr/>
        </p:nvSpPr>
        <p:spPr>
          <a:xfrm>
            <a:off x="3287880" y="4218120"/>
            <a:ext cx="147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- Belgi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1- Sp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8- Fr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Text Box 11"/>
          <p:cNvSpPr/>
          <p:nvPr/>
        </p:nvSpPr>
        <p:spPr>
          <a:xfrm>
            <a:off x="4993560" y="4218120"/>
            <a:ext cx="1448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1- Braz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26- Ch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34- Russ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Text Box 12"/>
          <p:cNvSpPr/>
          <p:nvPr/>
        </p:nvSpPr>
        <p:spPr>
          <a:xfrm>
            <a:off x="6555600" y="4218120"/>
            <a:ext cx="2020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48- Venezue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56- Cub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57- North Ko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7"/>
          <p:cNvGrpSpPr/>
          <p:nvPr/>
        </p:nvGrpSpPr>
        <p:grpSpPr>
          <a:xfrm>
            <a:off x="1390680" y="3303720"/>
            <a:ext cx="7089840" cy="1763640"/>
            <a:chOff x="1390680" y="3303720"/>
            <a:chExt cx="7089840" cy="1763640"/>
          </a:xfrm>
        </p:grpSpPr>
        <p:sp>
          <p:nvSpPr>
            <p:cNvPr id="637" name="Line 13"/>
            <p:cNvSpPr/>
            <p:nvPr/>
          </p:nvSpPr>
          <p:spPr>
            <a:xfrm>
              <a:off x="1390680" y="4206600"/>
              <a:ext cx="7089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Line 14"/>
            <p:cNvSpPr/>
            <p:nvPr/>
          </p:nvSpPr>
          <p:spPr>
            <a:xfrm>
              <a:off x="3309840" y="3303720"/>
              <a:ext cx="0" cy="1763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Line 15"/>
            <p:cNvSpPr/>
            <p:nvPr/>
          </p:nvSpPr>
          <p:spPr>
            <a:xfrm>
              <a:off x="4938480" y="3303720"/>
              <a:ext cx="0" cy="1763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Line 16"/>
            <p:cNvSpPr/>
            <p:nvPr/>
          </p:nvSpPr>
          <p:spPr>
            <a:xfrm>
              <a:off x="6500880" y="3303720"/>
              <a:ext cx="0" cy="1763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1" name="TextBox 27"/>
          <p:cNvSpPr/>
          <p:nvPr/>
        </p:nvSpPr>
        <p:spPr>
          <a:xfrm>
            <a:off x="1219320" y="1676520"/>
            <a:ext cx="709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anking of 157 countries for 200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Rectangle 18"/>
          <p:cNvSpPr/>
          <p:nvPr/>
        </p:nvSpPr>
        <p:spPr>
          <a:xfrm>
            <a:off x="6781680" y="64389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-</a:t>
            </a:r>
            <a:fld id="{46A57C4C-0E6F-4393-9A08-3062E44D02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0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23660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rket System Characterist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 txBox="1"/>
          <p:nvPr/>
        </p:nvSpPr>
        <p:spPr>
          <a:xfrm>
            <a:off x="1041480" y="1471680"/>
            <a:ext cx="787392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363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ivate proper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63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reedom of enterprise and choi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63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lf-intere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63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pet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63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rkets and pri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63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Rectangle 4"/>
          <p:cNvSpPr/>
          <p:nvPr/>
        </p:nvSpPr>
        <p:spPr>
          <a:xfrm>
            <a:off x="6781680" y="64389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-</a:t>
            </a:r>
            <a:fld id="{0F006377-95A4-4006-A5DA-0D4727073F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0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500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6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4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6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4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500"/>
                                        <p:tgtEl>
                                          <p:spTgt spid="6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1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4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500"/>
                                        <p:tgtEl>
                                          <p:spTgt spid="6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4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21" dur="1" fill="hold"/>
                                  <p:tgtEl>
                                    <p:spTgt spid="644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851040" y="-360"/>
            <a:ext cx="8292960" cy="123660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rket System Characterist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 txBox="1"/>
          <p:nvPr/>
        </p:nvSpPr>
        <p:spPr>
          <a:xfrm>
            <a:off x="990720" y="1496880"/>
            <a:ext cx="797544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and capital goo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ci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ivision of lab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eographic specializ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se of mone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tive, limited govern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Rectangle 4"/>
          <p:cNvSpPr/>
          <p:nvPr/>
        </p:nvSpPr>
        <p:spPr>
          <a:xfrm>
            <a:off x="6781680" y="64389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-</a:t>
            </a:r>
            <a:fld id="{703B1940-25FE-4849-AC19-E6D3EC2450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0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8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6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500"/>
                                        <p:tgtEl>
                                          <p:spTgt spid="6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4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500"/>
                                        <p:tgtEl>
                                          <p:spTgt spid="6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4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500"/>
                                        <p:tgtEl>
                                          <p:spTgt spid="6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4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" dur="500"/>
                                        <p:tgtEl>
                                          <p:spTgt spid="6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47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500"/>
                                        <p:tgtEl>
                                          <p:spTgt spid="6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47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66" dur="1" fill="hold"/>
                                  <p:tgtEl>
                                    <p:spTgt spid="647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825120" y="-360"/>
            <a:ext cx="8318520" cy="121140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rket System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 txBox="1"/>
          <p:nvPr/>
        </p:nvSpPr>
        <p:spPr>
          <a:xfrm>
            <a:off x="1028520" y="1614600"/>
            <a:ext cx="7962840" cy="497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will be produc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sumer sovereign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ollar vo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will goods be produc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source co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Rectangle 4"/>
          <p:cNvSpPr/>
          <p:nvPr/>
        </p:nvSpPr>
        <p:spPr>
          <a:xfrm>
            <a:off x="6781680" y="64389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-</a:t>
            </a:r>
            <a:fld id="{A4026DA4-63DE-4918-9B63-A25101878D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0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3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" dur="500"/>
                                        <p:tgtEl>
                                          <p:spTgt spid="6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3" dur="500"/>
                                        <p:tgtEl>
                                          <p:spTgt spid="6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5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500"/>
                                        <p:tgtEl>
                                          <p:spTgt spid="6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5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" dur="500"/>
                                        <p:tgtEl>
                                          <p:spTgt spid="6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5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" dur="500"/>
                                        <p:tgtEl>
                                          <p:spTgt spid="6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0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5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6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0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50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11" dur="1" fill="hold"/>
                                  <p:tgtEl>
                                    <p:spTgt spid="6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rket System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 txBox="1"/>
          <p:nvPr/>
        </p:nvSpPr>
        <p:spPr>
          <a:xfrm>
            <a:off x="939600" y="1198440"/>
            <a:ext cx="8204040" cy="517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o gets the outpu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illingness to p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is change  accommodat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lf-intere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is progress promot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echnological adva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apital accumul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Rectangle 4"/>
          <p:cNvSpPr/>
          <p:nvPr/>
        </p:nvSpPr>
        <p:spPr>
          <a:xfrm>
            <a:off x="6781680" y="64389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-</a:t>
            </a:r>
            <a:fld id="{B2F17AD8-2530-487D-9D5C-7F2861E729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nodeType="clickEffect" fill="hold">
                      <p:stCondLst>
                        <p:cond delay="0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8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3" dur="500"/>
                                        <p:tgtEl>
                                          <p:spTgt spid="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6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5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4" dur="500"/>
                                        <p:tgtEl>
                                          <p:spTgt spid="6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5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500"/>
                                        <p:tgtEl>
                                          <p:spTgt spid="6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5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6" dur="500"/>
                                        <p:tgtEl>
                                          <p:spTgt spid="6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5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500"/>
                                        <p:tgtEl>
                                          <p:spTgt spid="6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53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8" dur="500"/>
                                        <p:tgtEl>
                                          <p:spTgt spid="6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53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62" dur="1" fill="hold"/>
                                  <p:tgtEl>
                                    <p:spTgt spid="65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4T16:57:10Z</dcterms:created>
  <dc:creator>C. Norman Hollingsworth</dc:creator>
  <dc:description/>
  <dc:language>en-US</dc:language>
  <cp:lastModifiedBy>Local User</cp:lastModifiedBy>
  <dcterms:modified xsi:type="dcterms:W3CDTF">2011-09-26T17:54:29Z</dcterms:modified>
  <cp:revision>142</cp:revision>
  <dc:subject>McConnell-Brue Economics</dc:subject>
  <dc:title>Chapter 2</dc:title>
</cp:coreProperties>
</file>